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2FF4-F549-41BC-9E19-D17BE2556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E0D5-F3CD-4064-965A-7D1340938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181A-4201-45C2-A9DF-89531B7F6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7076-FBB9-49B5-827E-2775BD28E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2A909-A7AA-432F-B842-E347F8FDC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EA9F2-B08D-4D66-A2CB-0FA558F2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40000-1DBE-403C-B2CB-AA5E7FD5B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2C8C8-06C6-498B-8339-28727D766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FBBAD-DA28-4FBA-95DA-1DFBBE9D1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18D01-02C3-4E2F-AFB2-96DC8677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E23D7-C3A0-4302-9B78-64C3ACF2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C71D-0F3F-419B-9ADB-70F5A9600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3F631-F323-410E-9F72-66375D45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CB1CC-901A-46C0-8E96-4D01826E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59528-7007-440F-B93E-FF4AD979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D8E7B-631B-470D-891A-9617C6A2D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D725B-0CB6-438E-98C5-AA7C791A6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A8E7-D819-4B2F-A148-435CE3840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FB62-816F-403A-92E8-BC6370465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E386-1F42-407B-B0C2-BBC6E46AE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D03A-4434-4216-817C-AE4313D7B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3E7A-DFCA-4F87-9863-6EC41D04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64A2-FCAE-4C73-9A81-1BDE91F2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F2CD-2A48-451F-B4A9-4414D4E5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69929-32AC-438A-8C03-C876D36890C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F78AE-CE64-409C-82BD-A0005CA8ECE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32000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Earwig Factory"/>
              </a:rPr>
              <a:t>Freshmen</a:t>
            </a:r>
            <a:r>
              <a:rPr b="0" lang="en-US" sz="7200" spc="-1" strike="noStrike">
                <a:solidFill>
                  <a:srgbClr val="ff0000"/>
                </a:solidFill>
                <a:latin typeface="Earwig Factory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Earwig Factory"/>
              </a:rPr>
              <a:t>Class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2209680" y="5866920"/>
            <a:ext cx="69343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pee"/>
              </a:rPr>
              <a:t>Purpose</a:t>
            </a:r>
            <a:r>
              <a:rPr b="1" lang="en-US" sz="4800" spc="-1" strike="noStrike">
                <a:solidFill>
                  <a:srgbClr val="000000"/>
                </a:solidFill>
                <a:latin typeface="Boopee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Boopee"/>
              </a:rPr>
              <a:t>of Advisory Perio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8636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7162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lue Highway Linocut"/>
              </a:rPr>
              <a:t>What is the purpose of advisory period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rovide general academic, financial, college and career information and guidance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ach grade level has a specific curriculum designed to meet the needs of that particular group.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eshmen Advisory Focus Are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igh School Transi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ademic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CAP portfolio requirements and suppo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Jokerman"/>
              </a:rPr>
              <a:t>Freshmen Focus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Jokerman"/>
              </a:rPr>
              <a:t>High School Transition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-304920" y="1676160"/>
            <a:ext cx="6400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nk Crew will come to Freshmen advisories a few times throughout the year to facilitate activiti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cilitating a smooth and successful high school transition is a main goal of Link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Cre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037200" y="2819520"/>
            <a:ext cx="31068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Jokerman"/>
              </a:rPr>
              <a:t>Freshmen Focus: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Academi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est Prepar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nford Ten/AIMS reading, writing and math skill build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udy skills and final exam pre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Jokerman"/>
              </a:rPr>
              <a:t>Freshmen Foc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Jokerman"/>
              </a:rPr>
              <a:t>ECA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CAP career portfolio planning and support will be provided in Advisory throughout the year including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reer explor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gistration information related to four-year pl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port for academic progress (AIMS prep) toward academic goals/gradu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676520" y="228600"/>
            <a:ext cx="59608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21:15:10Z</dcterms:created>
  <dc:creator>Tech</dc:creator>
  <dc:description/>
  <dc:language>en-US</dc:language>
  <cp:lastModifiedBy>Leif Erickson</cp:lastModifiedBy>
  <dcterms:modified xsi:type="dcterms:W3CDTF">2011-06-05T22:31:21Z</dcterms:modified>
  <cp:revision>12</cp:revision>
  <dc:subject/>
  <dc:title>Sophomore Class </dc:title>
</cp:coreProperties>
</file>